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46D-3C94-47EE-BB48-F24525F5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CEA-1103-4F48-9AFE-63B23835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373-2244-40C3-A078-7D544ACD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0E1-CC91-490D-A525-D99308FA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37B-C1A3-417A-B52D-C7B51424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47E-BD6C-4A1E-A813-2E52E19A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531-5B96-4C04-BD61-D16B9867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896-138A-489D-ABC2-0CCB7CFA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612-98C8-4ED0-92A0-4540ECE7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6E1-BDD1-4A76-A693-19D173D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FC4-9E79-4765-BB42-9F3000BF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F97-07E6-49F4-A452-6D4F3DB9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FA4A-14A3-48AF-893C-0265F5B9B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lackadder ITC"/>
              </a:rPr>
              <a:t>3D Slide Show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Blackadder ITC"/>
              </a:rPr>
              <a:t>Direction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k at the pictures through the 3D g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swer the questions on a separate piece of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 NOT write on Question sheet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6680" y="95400"/>
            <a:ext cx="88106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6680" y="95400"/>
            <a:ext cx="88106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6680" y="95400"/>
            <a:ext cx="88106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04840" y="95400"/>
            <a:ext cx="693432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20:57:52Z</dcterms:created>
  <dc:creator>jobert</dc:creator>
  <dc:description/>
  <dc:language>en-US</dc:language>
  <cp:lastModifiedBy>jobert</cp:lastModifiedBy>
  <dcterms:modified xsi:type="dcterms:W3CDTF">2013-04-18T13:33:55Z</dcterms:modified>
  <cp:revision>2</cp:revision>
  <dc:subject/>
  <dc:title>3D Slide Show Directions…</dc:title>
</cp:coreProperties>
</file>